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F1B99-B277-4426-A5D0-B41C0A724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0344A-D4D7-457E-B3AA-80C819896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16AF-081F-423F-9E3E-8FCB140A8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3D828-B9ED-44DF-A3C7-75AAFA60F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B6AD6-1830-44DE-8437-919DF2FBB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E5AD8-DA18-4482-AD31-A4AB699B9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FAFA7-5E77-4EBB-8CE0-BEFC709215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76B97-E2B8-4411-A2E3-9958D208B7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208AF-E425-4185-8AA1-8B3D625930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4F0BA-1DFF-484D-BE92-8CC46B1A49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05E47-8C45-4947-BD50-96FC7B2166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7B1DE-D62B-4A75-8681-24C23CE9C7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1CF3E-1A41-432D-852D-E1ACBF36F4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9C74-0A7B-418F-8044-FA420BE41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116B7-2138-4E24-843D-F3104C4553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61CE6-C50D-41D1-84EC-E8E6F038EC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EEE1E-A355-44C0-B473-BA58CB1E35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B4E3A-09F0-4DF6-A21A-9241B6B8F0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091A4-1D6B-4A82-81DF-AE779151C1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009C-7E7B-43C9-A1F2-A08D343B9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06679-FD9E-4F3C-B120-A46C80883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6619A-9F96-4CF1-81C4-56231910B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C46BB-4D09-462F-BA40-876E9AC39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3596-AD0B-4881-8D9A-03893D292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FC53-0CB4-41B3-91CF-8660F1DC2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0CBD-1898-45D9-810D-A408551C3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70922-D4C6-4C18-B0E6-EBF00893B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wmo2016_powerpoint_standard_v2-2.jpg"/>
          <p:cNvPicPr/>
          <p:nvPr/>
        </p:nvPicPr>
        <p:blipFill>
          <a:blip r:embed="rId2"/>
          <a:stretch/>
        </p:blipFill>
        <p:spPr>
          <a:xfrm>
            <a:off x="0" y="5151600"/>
            <a:ext cx="1989000" cy="17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wmo2016_powerpoint_standard_v2-2.jpg"/>
          <p:cNvPicPr/>
          <p:nvPr/>
        </p:nvPicPr>
        <p:blipFill>
          <a:blip r:embed="rId2"/>
          <a:stretch/>
        </p:blipFill>
        <p:spPr>
          <a:xfrm>
            <a:off x="0" y="5151600"/>
            <a:ext cx="1989000" cy="17143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" descr="wmo2016_powerpoint_standard_v2-2.jpg"/>
          <p:cNvPicPr/>
          <p:nvPr/>
        </p:nvPicPr>
        <p:blipFill>
          <a:blip r:embed="rId3"/>
          <a:stretch/>
        </p:blipFill>
        <p:spPr>
          <a:xfrm>
            <a:off x="0" y="5151600"/>
            <a:ext cx="1989000" cy="1714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BB935-1EEB-4917-A372-FB4F5AD90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wmo2016_powerpoint_standard_v2-1.jpg"/>
          <p:cNvPicPr/>
          <p:nvPr/>
        </p:nvPicPr>
        <p:blipFill>
          <a:blip r:embed="rId1"/>
          <a:stretch/>
        </p:blipFill>
        <p:spPr>
          <a:xfrm>
            <a:off x="0" y="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4970520" y="5899320"/>
            <a:ext cx="41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0090"/>
                </a:solidFill>
                <a:latin typeface="Calibri"/>
              </a:rPr>
              <a:t>Atelier OSCAR/Surface </a:t>
            </a:r>
            <a:br>
              <a:rPr sz="2000"/>
            </a:br>
            <a:r>
              <a:rPr b="0" lang="de-DE" sz="2000" spc="-1" strike="noStrike">
                <a:solidFill>
                  <a:srgbClr val="000090"/>
                </a:solidFill>
                <a:latin typeface="Calibri"/>
              </a:rPr>
              <a:t>Dakar/Sen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hape 231"/>
          <p:cNvSpPr/>
          <p:nvPr/>
        </p:nvSpPr>
        <p:spPr>
          <a:xfrm>
            <a:off x="120600" y="1003320"/>
            <a:ext cx="88660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100" spc="-1" strike="noStrike">
                <a:solidFill>
                  <a:srgbClr val="000090"/>
                </a:solidFill>
                <a:latin typeface="Calibri"/>
              </a:rPr>
              <a:t>TCHA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100" spc="-1" strike="noStrike">
                <a:solidFill>
                  <a:srgbClr val="00009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660760" y="2101680"/>
            <a:ext cx="632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11993"/>
                </a:solidFill>
                <a:latin typeface="Calibri"/>
                <a:ea typeface="Arial"/>
              </a:rPr>
              <a:t>Mr NGAKOUGNON M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11993"/>
                </a:solidFill>
                <a:latin typeface="Calibri"/>
                <a:ea typeface="Arial"/>
              </a:rPr>
              <a:t>Chef de Division de la Climat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ctivités de burea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lles consistent à 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llecter, contrôler, traiter, saisir et archiver les données en vue de constituer une banque de données 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ffuser les informations et données météorologiques  et agrométéorologique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ublier les bulletins décadaires et les annuaires ;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2800" y="274320"/>
            <a:ext cx="84312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000" spc="-1" strike="noStrike">
                <a:solidFill>
                  <a:srgbClr val="000090"/>
                </a:solidFill>
                <a:latin typeface="Calibri"/>
              </a:rPr>
              <a:t>Le Personnel de l’ANAM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60360" y="792000"/>
            <a:ext cx="843120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NAM dispose d’un personnel qualifié composé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0 Ingénieur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6 Techniciens Supérieurs 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7 Agents Techniques en Agro météorologie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5 Conducteurs des travaux agricole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 Contractuel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5 Décisionnaires ;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80 Observateurs bénévoles travaillant au niveau de différentes stations sur l’ensemble du territoire nation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s Observateurs bénéficient des primes d’encouragement du budget de l’Et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exte phys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58840" y="1009800"/>
            <a:ext cx="8638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domaine hydrographique  reste dominé par les cours d’eau et les lacs parmi lesquels le Chari et le Logone qui sont des cours d’eau perman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s deux cours d’eau forment le système Chari-Logone dont la superficie de leur bassin versant est de 600 000 km2 à la confluence à N’Djamé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 rang des lacs, le plus important est le Lac Tchad qui est une fraction résiduelle d’une vaste mer intérieure dont sa superficie varie de 25 000 km2 à moins de 7 000 à l’heure actue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Exigences nationales pour les observ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58840" y="600120"/>
            <a:ext cx="8638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s tran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oix des sites des nouveaux aéroport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imensionnement des routes, des barrages, des ponts et ouvrages hydrauliques en fonction des donnée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 l’électric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oix des sites pour la production d’énergie éolienne ou solaire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mplantation des lignes  de transport   en fonction de la vitesse de vent et de la fréquence des n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 la san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iffusion d’avis d’alerte pour la population  sur la brume de poussière (asthme), sur les fortes chaleurs (cancer et méningite), les fortes humidités  (paludisme et choléra)et les temps orageux (troubles nerveu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Exigences nationales pour les observations (suit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58840" y="600120"/>
            <a:ext cx="8638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 l’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urniture d’avis réguliers aux agriculteurs sur l’évolution probable du temps en fonction des donnée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urniture d’avis sur le danger d’incidence de maladie de culture ou sur les possibilités de leur attaque par les insectes en fonction de l’évolution du temp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évision des récoltes par région en fonction des conditions météorologiques subies et du temps pour la fin des culture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évisions météorologiques à temps réel et des avis des phénomènes météorologiques dangereux (inondations et sécheres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re 1"/>
          <p:cNvSpPr/>
          <p:nvPr/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variables observées les plus pertin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76440" y="1677960"/>
          <a:ext cx="8059680" cy="4714920"/>
        </p:xfrm>
        <a:graphic>
          <a:graphicData uri="http://schemas.openxmlformats.org/drawingml/2006/table">
            <a:tbl>
              <a:tblPr/>
              <a:tblGrid>
                <a:gridCol w="515880"/>
                <a:gridCol w="515880"/>
                <a:gridCol w="515880"/>
                <a:gridCol w="515880"/>
                <a:gridCol w="515880"/>
                <a:gridCol w="516240"/>
                <a:gridCol w="514080"/>
                <a:gridCol w="515880"/>
                <a:gridCol w="516240"/>
                <a:gridCol w="731520"/>
                <a:gridCol w="555840"/>
                <a:gridCol w="703080"/>
                <a:gridCol w="735120"/>
                <a:gridCol w="692280"/>
              </a:tblGrid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û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mu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4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Titre 1"/>
          <p:cNvSpPr/>
          <p:nvPr/>
        </p:nvSpPr>
        <p:spPr>
          <a:xfrm>
            <a:off x="231840" y="819000"/>
            <a:ext cx="85024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es variables sont la pluviométrie, la température, le vent et l’humidité et sont illustrées dans les tableaux ci-aprè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tre 1"/>
          <p:cNvSpPr/>
          <p:nvPr/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températures maxi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9240" y="831960"/>
          <a:ext cx="8529480" cy="5527440"/>
        </p:xfrm>
        <a:graphic>
          <a:graphicData uri="http://schemas.openxmlformats.org/drawingml/2006/table">
            <a:tbl>
              <a:tblPr/>
              <a:tblGrid>
                <a:gridCol w="556920"/>
                <a:gridCol w="557280"/>
                <a:gridCol w="557280"/>
                <a:gridCol w="557280"/>
                <a:gridCol w="557280"/>
                <a:gridCol w="556920"/>
                <a:gridCol w="559080"/>
                <a:gridCol w="556920"/>
                <a:gridCol w="557280"/>
                <a:gridCol w="743040"/>
                <a:gridCol w="631800"/>
                <a:gridCol w="711360"/>
                <a:gridCol w="699840"/>
                <a:gridCol w="727200"/>
              </a:tblGrid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û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22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tre 1"/>
          <p:cNvSpPr/>
          <p:nvPr/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’humidité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9560" y="941400"/>
          <a:ext cx="8321760" cy="5008680"/>
        </p:xfrm>
        <a:graphic>
          <a:graphicData uri="http://schemas.openxmlformats.org/drawingml/2006/table">
            <a:tbl>
              <a:tblPr/>
              <a:tblGrid>
                <a:gridCol w="533520"/>
                <a:gridCol w="534960"/>
                <a:gridCol w="533520"/>
                <a:gridCol w="533520"/>
                <a:gridCol w="533160"/>
                <a:gridCol w="534960"/>
                <a:gridCol w="533520"/>
                <a:gridCol w="533520"/>
                <a:gridCol w="533160"/>
                <a:gridCol w="803520"/>
                <a:gridCol w="579240"/>
                <a:gridCol w="727200"/>
                <a:gridCol w="726840"/>
                <a:gridCol w="681120"/>
              </a:tblGrid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û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7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alibri"/>
              </a:rPr>
              <a:t>Example d’une liste de s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14520" y="1397160"/>
          <a:ext cx="7861320" cy="6237000"/>
        </p:xfrm>
        <a:graphic>
          <a:graphicData uri="http://schemas.openxmlformats.org/drawingml/2006/table">
            <a:tbl>
              <a:tblPr/>
              <a:tblGrid>
                <a:gridCol w="1122120"/>
                <a:gridCol w="1123920"/>
                <a:gridCol w="1122480"/>
                <a:gridCol w="1123920"/>
                <a:gridCol w="1122480"/>
                <a:gridCol w="1122120"/>
                <a:gridCol w="1124280"/>
              </a:tblGrid>
              <a:tr h="91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ti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ngi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e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ion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Y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ion temp,hum , hp, vent, évapo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’djamé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,hum,hp,pression, vent,insol,évap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éché</a:t>
                      </a:r>
                      <a:fld id="{FDB125B4-67D2-47B6-A63A-27BD7DF7B7C2}" type="slidenum"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number&gt;</a:t>
                      </a:fld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’une manière générale, L’ANAM vient d’être m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 place  avec ses différentes structures, n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timons  que son lancement va se dérouler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anière  progressive  pour  assumer la mission  qui lui est fixé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90"/>
                </a:solidFill>
                <a:latin typeface="Calibri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texte physique du TCH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igences nationales pour les observ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ventaire des capacités d'observation nationales actuel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wmo2016_powerpoint_standard_v2.jpg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itle 1"/>
          <p:cNvSpPr/>
          <p:nvPr/>
        </p:nvSpPr>
        <p:spPr>
          <a:xfrm>
            <a:off x="457200" y="2001960"/>
            <a:ext cx="822960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90"/>
                </a:solidFill>
                <a:latin typeface="Calibri"/>
              </a:rPr>
              <a:t>Merci de votre aimable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90"/>
                </a:solidFill>
                <a:latin typeface="Calibri"/>
              </a:rPr>
              <a:t>I.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ays enclavé, le Tchad couvre une superficie de 1.284.000 km² et est situé à la charnière de l’Afrique Saharienne, de l’Afrique Occidentale et de l’Afrique Centra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 population est d’environ 15 millions d’habitants à l’heure actuel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est limité au Nord par la Libye, au Sud par la République Centrafricaine, à l’Est par le Soudan et à l’Ouest par le Niger, le Nigeria et le Camero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Espace réservé du contenu 3" descr=""/>
          <p:cNvPicPr/>
          <p:nvPr/>
        </p:nvPicPr>
        <p:blipFill>
          <a:blip r:embed="rId1"/>
          <a:stretch/>
        </p:blipFill>
        <p:spPr>
          <a:xfrm>
            <a:off x="2674800" y="189000"/>
            <a:ext cx="459432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90"/>
                </a:solidFill>
                <a:latin typeface="Calibri"/>
              </a:rPr>
              <a:t>Présentation de l’ANAM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contenu 2"/>
          <p:cNvSpPr/>
          <p:nvPr/>
        </p:nvSpPr>
        <p:spPr>
          <a:xfrm>
            <a:off x="457200" y="860400"/>
            <a:ext cx="822960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gence Nationale de la Météorologie (ANAM) est l’émanation de la Direction Générale de la Météorologie Nationale, créée par Décret N°076/PR/PM/MACMN/201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Direction Générale de la Météorologie Nationale (DGMN) est une structure technique composée d’une Direction d’Exploitation et des applications Météorologiques et une Direction de Maintenance des Réseaux Météorolog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DGMN est un établissement public à caractère administratif dotée de la personnalité juridiqu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NAM est créée par la loi N°035/PR/2015 et est placée sous la tutelle du Ministère de l’Aviation Civile et de la Météorolog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90"/>
                </a:solidFill>
                <a:latin typeface="Calibri"/>
              </a:rPr>
              <a:t>Mandat de l’AN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57200" y="75096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gence Nationale de la Météorologie a pour mission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Concevoir et mettre en œuvre la politique du Gouvernement en matière de la Météorologi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Assurer la veille Météorologique sur l’évolution du clima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Mettre à la disposition des usagers publics et privés les données météorologiques et climatiqu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ettre en œuvre les Conventions et les Protocoles sur les Changements Climat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 A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ficultés/Contrai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assumer sa mission, l’ANAM rencontre d’énormes difficultés d’ordre technique et financ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es difficultés d’ordre techniqu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Insuffisance de personnel qualifi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Structure d’observation en état de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délabrement avanc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Faible densité du réseau d’observation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Manque des moyens roulants et matériel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pou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missions de terrains 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es difficultés d’ordre financi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Manque d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sponibilité financiè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SEAU D’OBSRVATION : l’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N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0080" y="1036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xploite 17 stations synoptiques avec l’ASECN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ère 8 stations climatologiques dont 2 seulement fonctionnent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ère 28 stations agro météorologiques dont 5 fonctionnent partiellement et 23 non fonctionne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ère 203 postes pluviométriques dont 95 fonctionnel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54 stations hydrologiques dont 14 fonctionnelles gérées par la D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activités de l’AN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lles sont de deux ord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ctivités de bureau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ctivités de ter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31T14:56:00Z</dcterms:created>
  <dc:creator>Timo Proescholdt</dc:creator>
  <dc:description/>
  <dc:language>en-US</dc:language>
  <cp:lastModifiedBy>hp</cp:lastModifiedBy>
  <dcterms:modified xsi:type="dcterms:W3CDTF">2019-04-09T09:50:26Z</dcterms:modified>
  <cp:revision>118</cp:revision>
  <dc:subject/>
  <dc:title>PowerPoint Presentation</dc:title>
</cp:coreProperties>
</file>